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4120"/>
            <a:ext cx="2792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298-6CAC-4ACE-B38A-BEE6A1CE2E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E42-F15B-4016-99F6-17FEFEAFF7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976400" y="768240"/>
            <a:ext cx="2757600" cy="36766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754520"/>
            <a:ext cx="48816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988-FF78-4AA1-813A-2493B83D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842-A5B4-4B79-8340-8CFD9DCA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EBE-DB52-4C0E-8D11-E8376106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C91-491E-4D0C-BB17-069D7A3C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8EF-6C67-40DC-AB8E-6897BA7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AB3-4056-4A52-BB33-E7D8782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87C-31D3-43F4-8F6E-78C75CB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1E4-09E9-4500-8141-E54AA9E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0D0-1336-4646-8D8C-5F4E9A4B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373-D086-4F02-85EF-873CB20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B61-7C76-4EE1-BD9B-A9B15C8F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422-10BC-4E92-8A33-85692B2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38F-A533-4738-9C26-BE62C0674E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인감"/>
          <p:cNvPicPr/>
          <p:nvPr/>
        </p:nvPicPr>
        <p:blipFill>
          <a:blip r:embed="rId1"/>
          <a:stretch/>
        </p:blipFill>
        <p:spPr>
          <a:xfrm>
            <a:off x="5934240" y="8555040"/>
            <a:ext cx="419040" cy="417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14440" y="939960"/>
            <a:ext cx="5976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문서번호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HR08-60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호                                                               </a:t>
            </a:r>
            <a:r>
              <a:rPr b="1" lang="en-US" sz="1100" spc="-1" strike="noStrike">
                <a:solidFill>
                  <a:srgbClr val="ff3300"/>
                </a:solidFill>
                <a:latin typeface="돋움"/>
                <a:ea typeface="돋움"/>
              </a:rPr>
              <a:t>`08.09.2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      신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광주과학기술원 총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참      조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취업지원센터 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      목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 2008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년 하반기 대졸 신입 및 경력사원 모집안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5349960"/>
            <a:ext cx="595476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설명회 및 채용면담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ts val="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모집요강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☞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별첨자료 참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원서접수 및 방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기   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’08.10.06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~ ’08.10.21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17: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방   법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온라인접수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Homepage(www.lignex1.com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『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 →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nline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지원 → 공개채용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』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문의전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서울 송지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hsongc@lignex1.com) /  02-2033-057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용인 강준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kkang@lignex1.com) /  031-288-918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구미 박기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kcpark@lignex1.com) /  054-469-815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18080" y="4921200"/>
            <a:ext cx="111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다             음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1920" y="2147760"/>
            <a:ext cx="6367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귀교의 무궁한 발전을 기원합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는 자주국방 실현을 위해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976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금정정밀로 출발하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밀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노텍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넥스원퓨쳐㈜를 거쳐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동안 오로지 자주국방을 위해 모든 역량과 능력을 집중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온 국내 최고의 방위산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에서 분리하였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넥스원㈜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로 사명을 변경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의 관계사인 방위산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문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에서는 유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중장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레이더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통신장비 및 정보전자전 장비 등의 방위산업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첨단  전자장비를 개발하고 있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계적 수준의 초고주파 핵심기술을 바탕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핵심사업을 이끌어 갈 우수한 인재를 확보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육성해 나가고 있습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에 당사에서는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2008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년 대졸 신입 및 경력사원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선발하고자 하오니 적극적인 협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탁드립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7840" y="351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서울시 강남구 역삼동 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838</a:t>
            </a: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번지 푸르덴셜타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Tel : 02-2033-0573    Fax : 02-2033-06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321080" y="8302680"/>
            <a:ext cx="283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LIG </a:t>
            </a: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넥스원주식회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대표이사  이 효 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33520" y="20509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33520" y="209700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33520" y="8953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11" descr="LIG넥스원"/>
          <p:cNvPicPr/>
          <p:nvPr/>
        </p:nvPicPr>
        <p:blipFill>
          <a:blip r:embed="rId2"/>
          <a:stretch/>
        </p:blipFill>
        <p:spPr>
          <a:xfrm>
            <a:off x="257040" y="117360"/>
            <a:ext cx="140040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58960" y="5610240"/>
          <a:ext cx="5449680" cy="762120"/>
        </p:xfrm>
        <a:graphic>
          <a:graphicData uri="http://schemas.openxmlformats.org/drawingml/2006/table">
            <a:tbl>
              <a:tblPr/>
              <a:tblGrid>
                <a:gridCol w="858600"/>
                <a:gridCol w="2502000"/>
                <a:gridCol w="2089080"/>
              </a:tblGrid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설명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6:00~17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면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5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~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0:00~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0:22:46Z</dcterms:created>
  <dc:creator>70399</dc:creator>
  <dc:description/>
  <dc:language>en-US</dc:language>
  <cp:lastModifiedBy>김수연</cp:lastModifiedBy>
  <dcterms:modified xsi:type="dcterms:W3CDTF">2008-10-01T00:57:53Z</dcterms:modified>
  <cp:revision>42</cp:revision>
  <dc:subject/>
  <dc:title>슬라이드 1</dc:title>
</cp:coreProperties>
</file>